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F24-AE02-482E-9AED-F06A9CF4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412-82CE-41D9-A516-D0BEA2CE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793-E373-4C31-B643-D1E59022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4A8-E613-49D0-8206-2CD54D5F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967C-1E2D-47D5-ACE1-0AB29ED5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8DB7-33B5-4633-BAE4-BAF6AE3D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5279-586F-4E11-91F4-C0A32149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48E-0E8B-4957-AE2D-FCD8E5D2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EDF-ABC2-4B63-99EF-1C6488A3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5B7-2FFF-4D8C-946E-3106E8D6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9D94-78D0-4DEA-934D-3F137BB7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0B0-74A8-488E-A111-ADE0A44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E6E-C5A2-4B5F-9438-62706B11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588-17C7-4986-8DFD-E30B6DF7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AB6A-D8A0-4B0B-AB26-21AAF78E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AC9-3CEA-4B6C-95EF-ADE3A1F5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AD66-8301-4A68-ACCD-31EDACAF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6085-6254-4303-B8CF-14102201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C007-557F-4EAC-A455-01C635CE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5F8D-2370-4E95-9416-CF95A71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9F98-DF56-4AF1-80B2-5ED1060B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BA48-AAE4-49C6-AFE7-988BA430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796-BF96-4161-ABB5-2D1F3694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BC9C-EB94-422C-BA85-8FD3A006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62E6-E3EE-4A33-BDD1-1BD55E6A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1543-AA2C-432C-BCE3-B767538E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6E98-B773-49D5-941D-187B53AF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A6FD-793F-4974-A57E-36A9F7B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45B7-1F6E-4361-A73B-5A034003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2618-E631-40EA-95F9-293A6EED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DB57-0C93-441F-A2B2-006A371B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6D9B-90A0-4B1E-8093-EE236688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8674-EEC6-4927-9F19-3AE2793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03B-DA02-4E49-82AD-D609D0CA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E89B-6AC5-46DF-AA63-9F2B034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3353-54F4-4100-9281-14F9585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D817-55A4-4A8A-8B0F-B58BF38A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A116-AF21-4220-8BA0-3146302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D8E8-CA31-4C0F-985B-EDA2E4C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27E0-B1C4-465A-B938-D0C1FDA6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8DBF-B86A-4112-B70A-B1B4950F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9076-A7A7-4DCF-970D-CBC50265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DEBF-7986-42B0-A7C5-701095EA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FAC4-449C-4236-B9C7-E99A58A3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458-27C1-40F8-BC78-C4923B0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8D0C8-9B33-4B43-B40A-66C6855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C952-D10A-439B-805A-E8644168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9421-B6A7-4F4A-9AD8-EFF12C2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F5B5-B665-4E7B-9A2E-B184935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1FB9-2953-4CB6-9964-9F2E68E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D8F40-FF5C-4609-ACE7-450F509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DDA2-EC7E-45B5-9CA0-934CC8A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1C27-2CD9-4055-9636-FC9C0D9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7692-36A5-42B2-A3A7-798152A1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1C11-2801-4D08-B51E-56BE7540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25C-BA7E-4B3C-9955-A2FF913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0751-0357-44E8-AE67-A28E3350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ADD9-2981-408A-9858-09049191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93E1-49F3-4938-B6C1-9A2F4A23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DE31-FDAF-4A73-971A-069E784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839DD-2925-4D7F-A2CE-D3728319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0761-CDF4-4C13-A5EF-414467E2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3449-72C9-42A4-B408-4476584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3DBE-DD81-43AE-BA72-33FDF395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287A-3543-4048-AFB7-F2C8191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22ED8-7353-4355-BDC2-DC3F5EB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312-583F-4C58-A664-4E43747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EF952-A3AB-4B94-B59B-0121595D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4D75-5F31-488E-933C-30066B68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63FB-9EB8-4333-AE32-108672D5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98E2-FB92-4B96-83E5-12A6782C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C88B-7B1D-4E1D-8F05-1E51B1D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5190E-BA35-4288-84D8-A8118B6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F3789-8660-4191-9557-30549EE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0362-AF2D-4FBB-B74F-311F5FE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3E42-5A8D-4D3C-9585-17B848A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0BB9-36A1-41AB-AA65-B5A05A5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17D-9424-479E-B453-81CD01CB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881F-F7DC-4068-BD0B-336F992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725EF-5860-4123-AD15-1233CBB6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8B27A-0F4E-4CEF-BEEA-B05925C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475C-FE51-416C-9689-4127DA05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26752-7835-4649-B02F-55303DBC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D23-78FF-4EAB-A750-A59C512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C581-DA60-4705-A589-C093FE3C63D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0F09-C188-4B51-9A9C-4B368B0E87B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278D-2017-4DB9-8834-0D8EE08B4E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0A70-FFDB-473A-B8C3-9C163A0D59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ADE4-A8AD-4546-8D8E-848C0A89CE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AD86-F340-4B6A-87A7-3AB7D47A51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5E3-5DB5-4792-AD03-869D95CC979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5835600" y="47149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Дулеп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дачне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294160" cy="34351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" descr=""/>
          <p:cNvPicPr/>
          <p:nvPr/>
        </p:nvPicPr>
        <p:blipFill>
          <a:blip r:embed="rId2"/>
          <a:stretch/>
        </p:blipFill>
        <p:spPr>
          <a:xfrm>
            <a:off x="189000" y="1500120"/>
            <a:ext cx="83325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049040" y="21420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6a08"/>
                </a:solidFill>
                <a:latin typeface="Candar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18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-82800" y="3786120"/>
            <a:ext cx="17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20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619280" y="90792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«Mistakes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95280" y="2205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peach, pear, chicken, apple,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il, cat, mouse, dog,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ird, airplane, kite, helicopter,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d, sun, green, purpl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ld, warm, dry, sky,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340000" y="981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eck yoursel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468360" y="22766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peach, pear,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ick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apple, 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a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t, mouse, dog,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irplane, kite, helicopter,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red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reen, purple,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cold, warm, dry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900000" y="1125360"/>
            <a:ext cx="7272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как можно больше новых слов, используя буквы данного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acknowledgement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2876400"/>
            <a:ext cx="22672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RePack by Diakov</cp:lastModifiedBy>
  <dcterms:modified xsi:type="dcterms:W3CDTF">2016-02-23T12:06:10Z</dcterms:modified>
  <cp:revision>43</cp:revision>
  <dc:subject/>
  <dc:title>Слайд 1</dc:title>
</cp:coreProperties>
</file>