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89C-73F5-45A6-BFDA-9AE771C1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5DB-DDDE-497D-B3A7-1A280B3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A0D-F73B-476A-8CFA-2ECF9E6C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3AB-0C49-4FBF-A922-17E294FB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2873-BA40-4CC8-AD16-A81182F8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3787-1342-46F5-B39E-5C07860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74A6-D22C-4C15-BDA6-1B11EBFC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694E-6E21-4C3F-8007-687F1F4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CB2-EA49-4AE7-A8C6-324F556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B345-AEC2-4CFB-ADCB-193A828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7B77-4563-4C60-B559-64BD928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822-8206-4126-AD57-2D1098B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3DD-1B31-43B6-B7AE-9B3896C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0491-39C7-467F-818F-31D9D00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ED36-B862-4F10-B945-C167547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FCBD-A1E8-4CEF-8B38-DAFE0B7D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257-CC16-40E4-8E99-506FACD7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8921-D1E3-4442-8EE5-FB6BB40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58A5-DAAC-4041-A9FB-C36B86B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0264-A5EA-4BB2-9A2F-F90ED42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E779-B2AB-43BE-B5A6-E56F8327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1931-C16D-4358-ADCA-92BC3A8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FE4-CB59-4848-BD4F-B1FF6AB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524F-E619-45F7-90FB-AB420A7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E4B5-8D8D-4E9F-A81B-2E13291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334D-C79E-467E-854B-ACE50460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CFE7-A47D-4831-A392-50CB0F1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7ABB-9C07-4AA3-9F89-0C7F9AC8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0499-FB18-493F-B160-5A60207C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0B80-5A0B-4D6E-BE06-59837633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3AE4-F96F-49F3-8991-D6D4F6A2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B99F-D533-46E2-B9E2-8191710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BEFE-3BE4-4D89-9133-270A0380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D87-8BAB-4560-8EAA-E696C25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DE0B-3393-4C93-8925-510CC2E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7E64-38A7-40F8-9A36-F189B8C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1740-68B9-42DB-B803-509C24F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9633-BFE6-439E-8D7C-21285CC5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A90F-7633-4127-B10B-30F81F4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6852-C830-4A4F-A186-2D7C389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A9B8-C99E-41AF-94E4-EE51412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1C7B-0DCE-460C-8F0F-76431306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FA05-4B02-401D-BA6F-E4BDECAE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1F2B-A3D0-4FEF-BB70-51D97CB7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5DC-CCF1-45A5-945E-11E287C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87A2-A915-4577-918E-3E4B031F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6231-15E3-4FD8-B264-A3798CA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F18D-8199-4E74-9B91-E03E14F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E799E-C9F1-47D1-B32F-89C8DB4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D798-5C3E-4499-BC18-30D29C0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4458-FB4D-4B5A-8CBA-9CD0FE3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3C09-8A76-47A1-9561-AA720D9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FB01-5212-4763-AA06-3BB6D09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769B-C365-4CB4-B091-80D44F4F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221E-B91E-433E-8896-153708E7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163-155E-494D-B565-3A9FB206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BF6D7-32FB-48EC-BB65-2876190C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B5E8-B685-4B7B-9C1D-0350164A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49344-FE3A-41BC-A00E-0E76F8C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9AB9-75A0-4BCA-A03D-D80ED4E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1D50-3C9F-4CEA-98D1-8F78ED4D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9073-4F13-43E2-86DC-AB9FACC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7A98-FE50-4525-BBBA-049870E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42BF-0067-4E6B-9441-FC1739E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9294-B0D2-4D11-98DA-ECB5F5D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BF19E-BE38-4E45-A956-F132F1E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56C-69AF-4FC9-BE96-D982396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D61F-375E-41AC-AAF5-DC666A3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53F4-9B5F-4BA8-85D3-CEA2A0D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CDB3-4C30-487F-9435-758FC650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AF77-29B4-4EBE-A422-15BBB18F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F8FC-F155-46C9-A0BB-E6A651F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44E50-5DA7-4934-929F-66017FDD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2A607-BD68-46D3-B975-318BD4B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46ED6-226D-4002-BDE0-3DCD6A3F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E506-DC72-48DF-B628-A32C2C8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12D2-5A87-4616-AAE9-7A7B510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71F-AD8A-4FAF-BAC9-0CD34BA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4233-0A1F-40A8-A36C-6EADDCC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353D6-8CC3-40F6-98B4-C68B6B1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4B302-309F-4478-9BE4-A7EC851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949F-D792-49CE-BF68-D32600FB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64C53-61BE-4BF9-9F7B-7B12C632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5E7-EEBE-4DDF-822A-3507941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59F-0D9A-4ACE-8322-279813FD30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A69-C38C-430A-BD6C-B14C3CDFFF7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0B9-8DF1-4CCA-BC27-AD8F4C5009C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79F-19E6-4FF4-8FB7-918A27CA08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211-0928-4BD3-99B3-07FC704B37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287-DF6A-45C2-B234-D5B8508F36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D40C-60B5-4764-A3DD-B4765A41D7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857240" y="100224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-викторина по английскому язы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чащихс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-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5835600" y="47149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Дулеп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дачнен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294160" cy="34351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" descr=""/>
          <p:cNvPicPr/>
          <p:nvPr/>
        </p:nvPicPr>
        <p:blipFill>
          <a:blip r:embed="rId2"/>
          <a:stretch/>
        </p:blipFill>
        <p:spPr>
          <a:xfrm>
            <a:off x="189000" y="1500120"/>
            <a:ext cx="83325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07800" y="1571760"/>
            <a:ext cx="637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white, cold and sw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ll children li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мороженое.jpg"/>
          <p:cNvPicPr/>
          <p:nvPr/>
        </p:nvPicPr>
        <p:blipFill>
          <a:blip r:embed="rId1"/>
          <a:stretch/>
        </p:blipFill>
        <p:spPr>
          <a:xfrm>
            <a:off x="3000240" y="1857240"/>
            <a:ext cx="3124440" cy="28339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3880080" y="51436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ce-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559440" y="171468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’s not a man, it’s not a woma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it teaches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книга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38520" cy="2851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681720" y="50720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049040" y="214200"/>
            <a:ext cx="648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6a08"/>
                </a:solidFill>
                <a:latin typeface="Candara"/>
              </a:rPr>
              <a:t>Match the proverb and its trans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0" y="928800"/>
            <a:ext cx="41432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 ne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5"/>
          <p:cNvSpPr/>
          <p:nvPr/>
        </p:nvSpPr>
        <p:spPr>
          <a:xfrm>
            <a:off x="0" y="3214800"/>
            <a:ext cx="307188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All is well that end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6"/>
          <p:cNvSpPr/>
          <p:nvPr/>
        </p:nvSpPr>
        <p:spPr>
          <a:xfrm>
            <a:off x="2571840" y="2143080"/>
            <a:ext cx="37148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While there is life, there is h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7"/>
          <p:cNvSpPr/>
          <p:nvPr/>
        </p:nvSpPr>
        <p:spPr>
          <a:xfrm>
            <a:off x="357120" y="5143680"/>
            <a:ext cx="33577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You can’t eat cake and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8"/>
          <p:cNvSpPr/>
          <p:nvPr/>
        </p:nvSpPr>
        <p:spPr>
          <a:xfrm>
            <a:off x="3000240" y="4214880"/>
            <a:ext cx="2786040" cy="107136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18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9"/>
          <p:cNvSpPr/>
          <p:nvPr/>
        </p:nvSpPr>
        <p:spPr>
          <a:xfrm>
            <a:off x="5857920" y="5000760"/>
            <a:ext cx="264312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No smoke without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10"/>
          <p:cNvSpPr/>
          <p:nvPr/>
        </p:nvSpPr>
        <p:spPr>
          <a:xfrm>
            <a:off x="6072120" y="3286080"/>
            <a:ext cx="2786040" cy="128592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Better late than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5786280" y="928800"/>
            <a:ext cx="3071880" cy="1357200"/>
          </a:xfrm>
          <a:prstGeom prst="ellipse">
            <a:avLst/>
          </a:prstGeom>
          <a:solidFill>
            <a:srgbClr val="b5cee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wo is a company, but three is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0" y="714240"/>
            <a:ext cx="4572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 need is</a:t>
            </a:r>
            <a:r>
              <a:rPr b="0" lang="ru-RU" sz="2000" spc="-1" strike="noStrike">
                <a:solidFill>
                  <a:srgbClr val="0066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 friend ind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-225720" y="150012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Two is a company, but three is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-167400" y="2214720"/>
            <a:ext cx="40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While there is life, there i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-144360" y="30002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All is well that end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-82800" y="3786120"/>
            <a:ext cx="17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ndara"/>
              </a:rPr>
              <a:t>Tastes differ</a:t>
            </a:r>
            <a:r>
              <a:rPr b="0" lang="en-US" sz="2000" spc="-1" strike="noStrike">
                <a:solidFill>
                  <a:srgbClr val="8fb5e5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-146520" y="442908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Better late than n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-200520" y="50720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You can’t eat cake and ha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9"/>
          <p:cNvSpPr/>
          <p:nvPr/>
        </p:nvSpPr>
        <p:spPr>
          <a:xfrm>
            <a:off x="-117720" y="5786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nstantia"/>
              </a:rPr>
              <a:t>No smoke without f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3860280" y="71424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Друзья познаются в 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885840" y="1500120"/>
            <a:ext cx="248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лиш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382920" y="2214720"/>
            <a:ext cx="39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ка живу- надею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дежда умирает посл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2545200" y="300024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ё хорошо, что хорошо кон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"/>
          <p:cNvSpPr/>
          <p:nvPr/>
        </p:nvSpPr>
        <p:spPr>
          <a:xfrm>
            <a:off x="1274400" y="3786120"/>
            <a:ext cx="40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вкус и цвет товарищ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6"/>
          <p:cNvSpPr/>
          <p:nvPr/>
        </p:nvSpPr>
        <p:spPr>
          <a:xfrm>
            <a:off x="2313000" y="442908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139200" y="5072040"/>
            <a:ext cx="43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 двумя зайцами погониш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 одного не пойм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2545920" y="5786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Нет дыма без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523880" y="714240"/>
          <a:ext cx="6096240" cy="53578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b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b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ac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642960" y="15001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 big house in the centre of the pi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house is yellow with red r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 are  two windows in the house and one door. To the left of the house there is a green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the right of the house there are two flowers. One flower is red, the second flower is blue. Under the tree there is a black d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ree there is a white fat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03040" y="221472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 have got four legs but I can’t w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619280" y="90792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«Mistakes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95280" y="2205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peach, pear, chicken, apple, 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ail, cat, mouse, dog, 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ird, airplane, kite, helicopter,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d, sun, green, purple,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ld, warm, dry, sky, cl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340000" y="981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eck yoursel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468360" y="22766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peach, pear,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chick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apple, 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ai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at, mouse, dog,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irplane, kite, helicopter,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red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reen, purple,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cold, warm, dry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k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lo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900000" y="1125360"/>
            <a:ext cx="72723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как можно больше новых слов, используя буквы данного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acknowledgement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590840"/>
            <a:ext cx="7718400" cy="1566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3143160" y="4071960"/>
            <a:ext cx="2190960" cy="208584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6" descr=""/>
          <p:cNvPicPr/>
          <p:nvPr/>
        </p:nvPicPr>
        <p:blipFill>
          <a:blip r:embed="rId3"/>
          <a:stretch/>
        </p:blipFill>
        <p:spPr>
          <a:xfrm>
            <a:off x="3279600" y="2876400"/>
            <a:ext cx="22672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1" descr="стол.bmp"/>
          <p:cNvPicPr/>
          <p:nvPr/>
        </p:nvPicPr>
        <p:blipFill>
          <a:blip r:embed="rId1"/>
          <a:stretch/>
        </p:blipFill>
        <p:spPr>
          <a:xfrm>
            <a:off x="1643040" y="2071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" descr="стул.bmp"/>
          <p:cNvPicPr/>
          <p:nvPr/>
        </p:nvPicPr>
        <p:blipFill>
          <a:blip r:embed="rId2"/>
          <a:stretch/>
        </p:blipFill>
        <p:spPr>
          <a:xfrm>
            <a:off x="5143680" y="20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"/>
          <p:cNvSpPr/>
          <p:nvPr/>
        </p:nvSpPr>
        <p:spPr>
          <a:xfrm>
            <a:off x="2103120" y="4572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5669640" y="4643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228240" y="1857240"/>
            <a:ext cx="89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’m tall and green, I’m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1233826343_the_isolated_tree_vector.jpg"/>
          <p:cNvPicPr/>
          <p:nvPr/>
        </p:nvPicPr>
        <p:blipFill>
          <a:blip r:embed="rId1"/>
          <a:stretch/>
        </p:blipFill>
        <p:spPr>
          <a:xfrm>
            <a:off x="2286000" y="1000080"/>
            <a:ext cx="4068720" cy="507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961800" y="62150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459720" y="1643040"/>
            <a:ext cx="794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does not have legs, but it g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" descr="часы.jpg"/>
          <p:cNvPicPr/>
          <p:nvPr/>
        </p:nvPicPr>
        <p:blipFill>
          <a:blip r:embed="rId1"/>
          <a:stretch/>
        </p:blipFill>
        <p:spPr>
          <a:xfrm>
            <a:off x="2857680" y="1722600"/>
            <a:ext cx="2786040" cy="27730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3822840" y="5000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005480" y="1357200"/>
            <a:ext cx="727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wo brother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ut they don’t see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глаза.jpg"/>
          <p:cNvPicPr/>
          <p:nvPr/>
        </p:nvPicPr>
        <p:blipFill>
          <a:blip r:embed="rId1"/>
          <a:stretch/>
        </p:blipFill>
        <p:spPr>
          <a:xfrm>
            <a:off x="2857680" y="185724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"/>
          <p:cNvSpPr/>
          <p:nvPr/>
        </p:nvSpPr>
        <p:spPr>
          <a:xfrm>
            <a:off x="4257720" y="485784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7:47:33Z</dcterms:created>
  <dc:creator>andy</dc:creator>
  <dc:description/>
  <dc:language>en-US</dc:language>
  <cp:lastModifiedBy>RePack by Diakov</cp:lastModifiedBy>
  <dcterms:modified xsi:type="dcterms:W3CDTF">2016-02-23T12:06:10Z</dcterms:modified>
  <cp:revision>43</cp:revision>
  <dc:subject/>
  <dc:title>Слайд 1</dc:title>
</cp:coreProperties>
</file>