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7B6-E736-4CCE-B5EE-5AFB7410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00C-06A3-426A-98AC-D16CD9ED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3F7-A68E-47EB-B582-4C8C82F0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6AD-B2D3-4A95-8A53-20BCDF88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2282-94CC-4C4E-9125-7A40EA16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CC8F-F28F-4E1E-A520-928F616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A8F5-978F-4E67-9F5A-E1D737E3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7BBB-0EB1-4A2F-B4D7-DA22E5FF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C66F-FEF0-4705-97FC-23C94A6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2B2-4796-4D9B-AC21-F86CF171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84CA-71BB-4B2B-94FD-BFF8BF1B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03B-2185-43B0-BED0-0F566DC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C851-03E2-48E6-9082-F1C93F1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E987-A655-4EBB-8B73-C96EE0A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137C-0311-40FA-BDA7-84E4DDFB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C425-C194-419A-875B-64ABA6C6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41CA-7036-48C2-9D02-D6076F99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40DE-DFB7-400C-BCCB-4F1BC78C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B80F-C47A-4607-9B96-502FC074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777C-08D0-4631-921F-F42B37C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8326-F0B6-49D7-8798-AAD14229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EA86-6F88-4867-A8D6-13972B3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03C-0551-4762-A110-C861F85C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6E824-CEFF-4414-A852-B21788CF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F029-4D0C-4212-98D8-61BDE4E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4527-3146-4075-9C1F-BFCB2922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06DD-14C2-486E-A037-2A39A86E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8A06-E6F8-4A3A-A91D-A18635C3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B9E9-A4D5-4A31-845B-EC2CB5EA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7C92-E726-4BBF-BFE0-3B23C0A1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A2C5-E59E-428B-8C59-A3CE9EC5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7B03-3887-472F-9B3A-21E943E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72A9-A81C-4101-A229-7B34C359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04C-A17A-4839-AB23-78F1ED2C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F0E1-494D-4F0C-876B-43630C35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4420-1D46-4232-9ED8-1978CE2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C234-02DB-450E-8FC3-08225B38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886F-4D59-4BDD-B7C9-9020432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A4E2-DA23-41E4-8702-014FA0A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3266-7A85-4D87-8344-5C88583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21DC-7E14-40B4-87EE-45F3E65F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85C5-AD78-4278-908E-433315B5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BD7F-995D-4FE3-942C-329146F2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5D91-CF93-4CE9-80A2-AA0305D1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A5F-ABE1-459E-A36B-C33FAC6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BEC96-441C-4357-BF38-691200C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AAE82-BB8D-4020-9E7F-1E884C27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B3BC-B52B-458A-8B41-4C125235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7B6B-9E17-4D6E-9B2D-0C44101F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E28A7-1B1E-49F3-9A8A-48A7396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4B06C-A308-44DA-89EE-802ACC4A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AF11F-A179-4BFC-AF79-C800AC93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CE9C-EC06-48CD-B319-005CD2D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DA68-D524-4F86-8809-DE0E5C6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A0F9-DE71-420A-803E-49D1ED57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8C7-1B73-4BDB-A957-4EF72465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13B8-D6AC-4AAF-900F-733BA7D2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9C149-5A6B-4CDE-BE29-B94F1D87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A231-1AD1-43CD-A1BD-0A6363AB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3C30-F168-40F7-B6C5-3D38AB3B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2CBC4-DDB5-4B51-9856-2AC10D2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0002C-4CCC-4801-8D81-81FB42D3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EAF3-9DF9-4594-894C-60545C9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A69B2-9F3F-4EEA-B7C1-D9BC802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9A5A-9148-4239-9692-CF9712DC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374E-8D91-44C5-B99C-FEA5742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338-79E8-44D8-9502-2A3C0E9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0485-AEAE-474D-BF92-4041E49A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4C624-7CBB-4CB3-9359-23F853F0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D0DC-86BC-4EE2-A667-A16DBEFE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278EE-8941-4475-8FA3-B9C8C5F1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CF746-43D4-4ECF-93F5-7AB2DDEA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C69C1-3FD4-42A1-9384-9A70775F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C6C1A-7753-4654-B00C-DD15811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58BE-CB6F-4FDB-A3FB-7233748C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06D90-0EFA-4D18-A3DC-E09BD074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5F87-9ACE-4589-AE97-A63CE431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FE3-AD74-4880-A7D1-A7CEE10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CCFDB-2D63-4CC1-B21D-64A4A82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A4295-3170-420E-9A99-562FBFA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57BE2-7BE1-44E0-AB10-13EB4735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6A064-1072-428E-B4C1-EEEEAC95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6874-F262-404E-A463-261E1BCA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EA4-64CF-4E24-81AC-62A2B5CC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06ED-B6CB-439E-9A59-B7234929642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31F4-9F43-45F0-89C8-F4D565B18C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D93-E8E5-4C7B-B60E-7860F74B35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6C51-8F01-40D4-8A7A-0D3E5404803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AA9F-57D7-4F89-9029-601139B071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51A5-25A6-40A7-AC8E-965D8A9FA24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263F-8139-4B19-A729-3A9E338396F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5835600" y="47149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Дулеп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Удачнен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5294160" cy="343512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1" descr=""/>
          <p:cNvPicPr/>
          <p:nvPr/>
        </p:nvPicPr>
        <p:blipFill>
          <a:blip r:embed="rId2"/>
          <a:stretch/>
        </p:blipFill>
        <p:spPr>
          <a:xfrm>
            <a:off x="189000" y="1500120"/>
            <a:ext cx="83325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1049040" y="214200"/>
            <a:ext cx="64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6a08"/>
                </a:solidFill>
                <a:latin typeface="Candar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18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-82800" y="3786120"/>
            <a:ext cx="172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20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1619280" y="90792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«Mistakes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95280" y="2205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peach, pear, chicken, apple,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ail, cat, mouse, dog,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ird, airplane, kite, helicopter,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d, sun, green, purple,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ld, warm, dry, sky, cl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340000" y="981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eck yoursel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468360" y="227664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peach, pear,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chick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apple, ban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ai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at, mouse, dog,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i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irplane, kite, helicopter,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red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reen, purple,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cold, warm, dry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k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lo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900000" y="1125360"/>
            <a:ext cx="72723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йте как можно больше новых слов, используя буквы данного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acknowledgement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590840"/>
            <a:ext cx="7718400" cy="1566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6" descr=""/>
          <p:cNvPicPr/>
          <p:nvPr/>
        </p:nvPicPr>
        <p:blipFill>
          <a:blip r:embed="rId3"/>
          <a:stretch/>
        </p:blipFill>
        <p:spPr>
          <a:xfrm>
            <a:off x="3279600" y="2876400"/>
            <a:ext cx="22672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RePack by Diakov</cp:lastModifiedBy>
  <dcterms:modified xsi:type="dcterms:W3CDTF">2016-02-23T12:06:10Z</dcterms:modified>
  <cp:revision>43</cp:revision>
  <dc:subject/>
  <dc:title>Слайд 1</dc:title>
</cp:coreProperties>
</file>