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D0F-4D6C-4956-86AB-159D217E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1A8-3B49-4133-B27A-1342DF5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6ED-3F3C-4A1E-ACF9-EBDD644A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A3A-27BC-471E-BDCC-A627AF1A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DF8-69ED-4B8C-88BD-D571718C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131-1972-43D3-ADD1-A0DEDD6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B713-28B8-409C-8B19-6B326286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1CA7-4EB4-4569-B14E-36341D55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2F9-5185-47B2-A142-F597D976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DECC-BB42-4EF0-88C2-7A4DB273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BF5D-79A8-481F-83D6-47F4C9B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B38-A5E0-4461-A267-CF2B94B9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FDB5-9212-42F8-BE90-A626A49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57CE-1A5D-451A-8138-6B6ED43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C5A-930E-4C69-94DA-EF8D4567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98B1-5D8D-479F-8E94-5A7B605C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C862-203B-4D19-B4B7-A9FA45C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B892-9797-4EEB-AA8E-7D38C0FE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2723-EF2A-48BA-A345-80E869A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94DE-321A-4329-B014-3FF99707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DB87-1F0D-4EE2-9613-F29F812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A89A-CFD4-46F4-A76C-33EE15B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63C-451D-474E-847F-73EDB4CA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1DB0-112F-476F-82B9-08860BF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063A-ECF2-48BC-9F1F-50831F18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BC33-2AE0-4B53-89C5-78BD730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E41A-5D41-40DF-AE86-38F7879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467A-E45F-4E42-ABDE-3DCC272F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874F-C50F-41DF-936B-7D276D38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D0F9-2CEC-49D3-BF1A-D4150C17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FDFE-6E50-455E-8D5B-BE8A4C01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6B97-ABB6-4D40-89C1-99A6F6EA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6861-93BC-4667-A414-8B29E769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73A-C02A-4034-9CE1-7746F99C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9C2E-C2D6-457D-A92D-3EB76BC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7CE1-ACDC-4A4C-AD0A-33740A1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FD61-DDFD-4D28-A11E-AF9275C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4287-50B6-4D75-9121-A7C0EFC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97BD-E8ED-4E0A-8AC4-5F2791B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886A-137C-48A3-BEB4-7656BE0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95BD-3A31-4238-8785-7930C11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088C-939D-4CE2-8C64-C812BE0E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9D29-71EC-4FCA-89A6-A75A17C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295-1A98-4B8C-8A5A-B8357F8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D4C-BF6C-43F0-BBAF-76885ED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1F2-163B-4125-998A-A5B632E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A77-0F1D-4C6D-BC6D-F4C3D7C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222-A62D-4395-B03C-9AD139D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39E3-8CC2-4DBC-8940-761CDB3798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522-DE5B-458B-9892-88AC5C3123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2C5-53F2-4CEE-B680-5E762B75F5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CD9-273D-4802-843A-ABA04BF34B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0000" y="5373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2195640" y="198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Arial"/>
              </a:rPr>
              <a:t>Сохраним планету – сохраним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планета Земля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0246.jpg"/>
          <p:cNvPicPr/>
          <p:nvPr/>
        </p:nvPicPr>
        <p:blipFill>
          <a:blip r:embed="rId1"/>
          <a:stretch/>
        </p:blipFill>
        <p:spPr>
          <a:xfrm>
            <a:off x="1000080" y="1643040"/>
            <a:ext cx="1657440" cy="1257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Друзья.jpg"/>
          <p:cNvPicPr/>
          <p:nvPr/>
        </p:nvPicPr>
        <p:blipFill>
          <a:blip r:embed="rId2"/>
          <a:stretch/>
        </p:blipFill>
        <p:spPr>
          <a:xfrm>
            <a:off x="3143160" y="1500120"/>
            <a:ext cx="5616720" cy="4211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j0178656.jpg"/>
          <p:cNvPicPr/>
          <p:nvPr/>
        </p:nvPicPr>
        <p:blipFill>
          <a:blip r:embed="rId3"/>
          <a:stretch/>
        </p:blipFill>
        <p:spPr>
          <a:xfrm>
            <a:off x="214200" y="3500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храним родную при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10.jpg"/>
          <p:cNvPicPr/>
          <p:nvPr/>
        </p:nvPicPr>
        <p:blipFill>
          <a:blip r:embed="rId1"/>
          <a:stretch/>
        </p:blipFill>
        <p:spPr>
          <a:xfrm>
            <a:off x="1266840" y="1600200"/>
            <a:ext cx="66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 апреля – всемирный день Земл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7 год - год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же так получается, что планета вращается, что планета вращается несмотря ни на чт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мы вроде бы умные – о природе не думаем, и , конечно, не думаем, что же дальше нас ждет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хранить природу – это сохранить жиз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поведник был создан в Соединенных Штатах Америки в 1832 г., Там же в 1872 был открыт первый национальный парк – Иеллоустон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год во всем мире в водоемы попадают столько вредных веществ, что ими можно было бы наполнить 10 тысяч товарных поездов. Даже во льдах Арктики нашли стиральный порош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и,родник,жив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зеро Байкал, содержит 1/3 мировых запасов пресной воды потеряло способность самоочищаться. За последние 60 лет на планете исчезли 77 видов животных и несколько сотен видов растений, 26 видов пти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территории нашей страны выделено около 300 ареалов с острой экологической ситуацией. Они занимают 16 % ее площади,или 3,7 млн к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мага будет лежать 2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ная банка –более 3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иэтиленовый пакет – более 2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кло – более 10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ловек! Запомни навсегда:Символ жизни на земле – вода! Экономь ее и береги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0241.jpg"/>
          <p:cNvPicPr/>
          <p:nvPr/>
        </p:nvPicPr>
        <p:blipFill>
          <a:blip r:embed="rId1"/>
          <a:stretch/>
        </p:blipFill>
        <p:spPr>
          <a:xfrm>
            <a:off x="1428840" y="1571760"/>
            <a:ext cx="5932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я книга растений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96760" y="22320"/>
            <a:ext cx="50086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5760" y="3573360"/>
            <a:ext cx="3108240" cy="31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511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0:20:36Z</dcterms:created>
  <dc:creator>Admin</dc:creator>
  <dc:description/>
  <dc:language>en-US</dc:language>
  <cp:lastModifiedBy>RePack by Diakov</cp:lastModifiedBy>
  <dcterms:modified xsi:type="dcterms:W3CDTF">2017-01-30T16:48:31Z</dcterms:modified>
  <cp:revision>9</cp:revision>
  <dc:subject/>
  <dc:title>На пороге экологической катастрофы</dc:title>
</cp:coreProperties>
</file>