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EAE7-0B92-48D9-BD92-EA1E3203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3236-2391-4BF3-AB1D-25728D1B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A5FA-9D2C-421B-BC47-74514D1EF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F6CA-3064-4E55-957F-6A3BD338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2203-E6C1-4D31-8164-91B627681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56F9-FEF6-4E6A-A60E-5C22D331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1960-6848-4CEC-9DD6-04B1AA11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B816-BFBB-40FB-A2A4-7996B5D1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6690-D42C-4B99-B2F4-8546C69F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9D84-EA05-4DA0-95B4-E691DC93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9478-EBEF-4778-851C-5F85DBB8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7B85-F28D-4791-B4FD-9B52E420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F60F-58D9-4C39-8826-EC4F30C9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2EDB-9782-4657-A7F5-18EBECC7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14F1-D25A-4ADD-8D60-F8EA384D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5069-8A4B-44AB-9784-E37EB13B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2071-38B2-4865-BF8E-CF0283CF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3AA0B-62DA-4CFF-A207-58BFCE056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DA64D-17AE-466B-BCD2-DD63087A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BA7CA-7C5F-4752-B46B-820FF2B2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07A07-5BB6-417B-A36A-22BB493F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98E2E-C0AB-4A54-A504-BD6BF264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8612-5408-4F9A-8036-8EB88897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A0AA5-22C6-4090-87C2-9233749B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7D95F-7BC2-4D1F-B052-06E85EBC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EEE12-A67A-451F-825D-FA93D975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02BD4-D678-4187-B9F7-5C4BFB9D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DA730-ACBB-46B5-ABBB-027A10AB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D9E59-85FC-445C-B0E8-81A928547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96A17-2CE7-414E-A741-0F27F524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15391-E4DD-4017-93AC-80E16DAF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F4BF0-C012-4AC3-A766-CDFF7D0E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9605B-5D73-4903-BAB9-C405B1D7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4CBD-6E4B-4080-9EB2-6423050C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D3BE9-AB9C-41EF-8757-4182BEE3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FEB81-7C47-40C4-B1DA-CBD4B1F5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540F2-2009-4B2E-B6B7-37F8CEBA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13B90-C228-4C20-BE88-919535F9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0EC01-3482-440C-85BD-D86EB29B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92AEF-BDF7-4006-8778-6F7A993D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04FD2-E604-467E-92AC-99F59B4E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15FC6-3FF6-47B5-87B9-CB335A5E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4BB56-725D-4BF2-81F4-4462D9E92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1019-1743-4FD4-9019-2F620660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BA56-8474-4B80-A1CE-8E2C014C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290A-E14D-4CD0-B137-9D115702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67BE-828A-4FF9-9D2B-AB6F41BD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1C27-35FB-4304-B545-B908DAE5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5D3A-F7C8-49A0-A94F-60ECF4F02E7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3D3D-1EB4-4A9D-A7A8-E87863AA4FF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DF47-FEC1-4DCD-AE3E-E9EE3E90033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F6B4-C134-4A8B-A16A-B82A02FBF12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кологический у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580000" y="537372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8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1"/>
          <p:cNvSpPr/>
          <p:nvPr/>
        </p:nvSpPr>
        <p:spPr>
          <a:xfrm>
            <a:off x="2195640" y="1989000"/>
            <a:ext cx="633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54061"/>
                </a:solidFill>
                <a:latin typeface="Arial"/>
              </a:rPr>
              <a:t>Сохраним планету – сохраним ми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ша планета Земля!!!!!!!!!!!!!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Содержимое 3" descr="0246.jpg"/>
          <p:cNvPicPr/>
          <p:nvPr/>
        </p:nvPicPr>
        <p:blipFill>
          <a:blip r:embed="rId1"/>
          <a:stretch/>
        </p:blipFill>
        <p:spPr>
          <a:xfrm>
            <a:off x="1000080" y="1643040"/>
            <a:ext cx="1657440" cy="12574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5" descr="Друзья.jpg"/>
          <p:cNvPicPr/>
          <p:nvPr/>
        </p:nvPicPr>
        <p:blipFill>
          <a:blip r:embed="rId2"/>
          <a:stretch/>
        </p:blipFill>
        <p:spPr>
          <a:xfrm>
            <a:off x="3143160" y="1500120"/>
            <a:ext cx="5616720" cy="421164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6" descr="j0178656.jpg"/>
          <p:cNvPicPr/>
          <p:nvPr/>
        </p:nvPicPr>
        <p:blipFill>
          <a:blip r:embed="rId3"/>
          <a:stretch/>
        </p:blipFill>
        <p:spPr>
          <a:xfrm>
            <a:off x="214200" y="3500280"/>
            <a:ext cx="36576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Сохраним родную природ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Содержимое 3" descr="10.jpg"/>
          <p:cNvPicPr/>
          <p:nvPr/>
        </p:nvPicPr>
        <p:blipFill>
          <a:blip r:embed="rId1"/>
          <a:stretch/>
        </p:blipFill>
        <p:spPr>
          <a:xfrm>
            <a:off x="1266840" y="1600200"/>
            <a:ext cx="6610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2 апреля – всемирный день Земли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17 год - год эк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к же так получается, что планета вращается, что планета вращается несмотря ни на что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се мы вроде бы умные – о природе не думаем, и , конечно, не думаем, что же дальше нас ждет…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хранить природу – это сохранить жизн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вый заповедник был создан в Соединенных Штатах Америки в 1832 г., Там же в 1872 был открыт первый национальный парк – Иеллоустонск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ждый год во всем мире в водоемы попадают столько вредных веществ, что ими можно было бы наполнить 10 тысяч товарных поездов. Даже во льдах Арктики нашли стиральный порошо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ви,родник,жив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Озеро Байкал, содержит 1/3 мировых запасов пресной воды потеряло способность самоочищаться. За последние 60 лет на планете исчезли 77 видов животных и несколько сотен видов растений, 26 видов птиц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а территории нашей страны выделено около 300 ареалов с острой экологической ситуацией. Они занимают 16 % ее площади,или 3,7 млн км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омните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умага будет лежать 2 го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онсервная банка –более 30 л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лиэтиленовый пакет – более 200 л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текло – более 1000 л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Человек! Запомни навсегда:Символ жизни на земле – вода! Экономь ее и береги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Содержимое 3" descr="0241.jpg"/>
          <p:cNvPicPr/>
          <p:nvPr/>
        </p:nvPicPr>
        <p:blipFill>
          <a:blip r:embed="rId1"/>
          <a:stretch/>
        </p:blipFill>
        <p:spPr>
          <a:xfrm>
            <a:off x="1428840" y="1571760"/>
            <a:ext cx="59324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асная книга растений Кры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4608720" cy="345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3"/>
          <a:stretch/>
        </p:blipFill>
        <p:spPr>
          <a:xfrm>
            <a:off x="4427640" y="1268280"/>
            <a:ext cx="4537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"/>
          <p:cNvPicPr/>
          <p:nvPr/>
        </p:nvPicPr>
        <p:blipFill>
          <a:blip r:embed="rId2"/>
          <a:stretch/>
        </p:blipFill>
        <p:spPr>
          <a:xfrm>
            <a:off x="896760" y="22320"/>
            <a:ext cx="5008680" cy="3168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3"/>
          <a:stretch/>
        </p:blipFill>
        <p:spPr>
          <a:xfrm>
            <a:off x="455760" y="3573360"/>
            <a:ext cx="3108240" cy="3132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4"/>
          <a:stretch/>
        </p:blipFill>
        <p:spPr>
          <a:xfrm>
            <a:off x="3708360" y="2637000"/>
            <a:ext cx="511164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20:20:36Z</dcterms:created>
  <dc:creator>Admin</dc:creator>
  <dc:description/>
  <dc:language>en-US</dc:language>
  <cp:lastModifiedBy>RePack by Diakov</cp:lastModifiedBy>
  <dcterms:modified xsi:type="dcterms:W3CDTF">2017-01-30T16:48:31Z</dcterms:modified>
  <cp:revision>9</cp:revision>
  <dc:subject/>
  <dc:title>На пороге экологической катастрофы</dc:title>
</cp:coreProperties>
</file>